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9477-8843-4057-8844-C780DB3F2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6B49-9D12-45DE-9034-2707E0556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18C2-732D-43A7-83E7-6240866E6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2682-167C-4241-8F71-00911AACF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D546-CF4D-4140-BC7D-B58EEA7900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B214-C020-4EE0-B3AB-17DB320AF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EFDE-1816-4A31-B0DF-82766C330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C572-3A14-484D-BBAF-BBBF01382A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F161-72F9-44BE-AAAB-D51AACE6EA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F4D2E-6182-4988-8A0C-1D96F52068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3DAB-DC99-4B18-A2E0-C8DE078DC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DC29-C83A-4AE4-B2B0-132EA4FC3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6A2A-88BA-45E3-95EA-3036F2E1FD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16F1-1BA4-4495-BF96-BBCF874E2A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95B1-FBAA-4344-8F89-95DEC84ADD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63EF-2DB4-42DB-B516-F2D204DFE7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9475-1EB2-40EA-8374-DA05D1BAC7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0C1-62FF-4D2F-858D-A4B602B6D1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AFC-9C5E-4250-ACE3-8F355C6B00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406-9C20-4BD3-B39D-3119268557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A6BD-E80A-4047-A894-B6FC3B049D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4F7-1F2A-487A-933D-98A6BFE39C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12AA-5371-4E4E-9DA3-643DFCBA3B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531-10E1-4828-9096-729B8D60BE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AC4-D07C-4588-84AF-584F6BE855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D88-0EF9-49F0-8CDC-FDF972E42A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4FB-1E05-47DE-A5AC-91F9CC1362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1E62-0CF3-44A3-B858-469A4280AB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883-EFFF-40E4-94F0-41EB356F0B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C39-08FB-416C-8E53-4C6A1CA9BF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26313-7819-468E-A2BE-3E32063DF8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F16BE-C174-4F3E-9A55-974D8C2351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39BB7-29BC-4117-B976-D4E1E4EAC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D20D-7BDB-4915-984B-4138338B51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C78F-DFF2-4DEE-9445-162C41C293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D0B86-B37F-4B3A-807F-EE2E74236B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70358-9F4A-42A4-B6E2-A6D02F3A40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71738-4DAE-4F7F-B771-379999D163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199BB-FAD9-47B6-8111-B96BD22BB1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BAA35-498F-46E3-90FE-2F04B31162D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38FF0-FEC8-47B1-AB0E-38623B602B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B6BF9-0EBF-468A-A7D5-8D3E537F60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506120"/>
            <a:ext cx="264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2CD35-635D-41DC-8A25-F115C4B10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D451-6B6C-436F-ABCD-6AAC5261C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85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6B20B-D0A1-4298-B56B-ED2EFB6D9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4A20-8AAA-4F21-9629-EDB3570A3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0612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5E81-0C98-4324-BDCD-B3D078473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06120"/>
            <a:ext cx="8229600" cy="2347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3DEF-DBBC-49FB-A493-1A2C433E9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1340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C5A2-66F7-423B-B352-E74DF733FEF3}" type="slidenum">
              <a:rPr b="0" lang="en-US" sz="1200" spc="-1" strike="noStrike">
                <a:solidFill>
                  <a:srgbClr val="d1eaee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1340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D37-62AA-41AC-927C-26E88466BF6F}" type="slidenum"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80" name="AutoShape 2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83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84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86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ffffff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21340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56B4-9AD0-46AB-AA28-C2347BF4E2CA}" type="slidenum">
              <a:rPr b="0" lang="en-US" sz="1200" spc="-1" strike="noStrike">
                <a:solidFill>
                  <a:srgbClr val="d1eaee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"/>
          <p:cNvSpPr/>
          <p:nvPr/>
        </p:nvSpPr>
        <p:spPr>
          <a:xfrm flipH="1" rot="11220000">
            <a:off x="3164040" y="1108080"/>
            <a:ext cx="5257800" cy="4114800"/>
          </a:xfrm>
          <a:custGeom>
            <a:avLst/>
            <a:gdLst>
              <a:gd name="textAreaLeft" fmla="*/ -360 w 5257800"/>
              <a:gd name="textAreaRight" fmla="*/ 5257800 w 525780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84" y="0"/>
                </a:lnTo>
                <a:lnTo>
                  <a:pt x="21600" y="788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251" dir="7502171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"/>
          <p:cNvSpPr/>
          <p:nvPr/>
        </p:nvSpPr>
        <p:spPr>
          <a:xfrm flipH="1" rot="11220000">
            <a:off x="8004240" y="535932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12682" dir="12875538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 flipH="1" rot="10800000">
            <a:off x="-9360" y="5816160"/>
            <a:ext cx="9162720" cy="1041480"/>
          </a:xfrm>
          <a:custGeom>
            <a:avLst/>
            <a:gdLst>
              <a:gd name="textAreaLeft" fmla="*/ 360 w 9162720"/>
              <a:gd name="textAreaRight" fmla="*/ 916344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ebf8">
                  <a:alpha val="55294"/>
                </a:srgbClr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AutoShape 4"/>
          <p:cNvGrpSpPr/>
          <p:nvPr/>
        </p:nvGrpSpPr>
        <p:grpSpPr>
          <a:xfrm>
            <a:off x="4376880" y="6242040"/>
            <a:ext cx="4773600" cy="622440"/>
            <a:chOff x="4376880" y="6242040"/>
            <a:chExt cx="4773600" cy="622440"/>
          </a:xfrm>
        </p:grpSpPr>
        <p:pic>
          <p:nvPicPr>
            <p:cNvPr id="130" name="AutoShape 4" descr=""/>
            <p:cNvPicPr/>
            <p:nvPr/>
          </p:nvPicPr>
          <p:blipFill>
            <a:blip r:embed="rId3"/>
            <a:stretch/>
          </p:blipFill>
          <p:spPr>
            <a:xfrm>
              <a:off x="4376880" y="6242040"/>
              <a:ext cx="47736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rot="10800000">
              <a:off x="4381200" y="624960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2856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903240" indent="-2458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76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50800" indent="-20952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50800" indent="-20952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8289720" y="6543720"/>
            <a:ext cx="1825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836D-C6CF-47DF-9434-12F4842EE44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73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176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177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179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0" name="Picture 8" descr=""/>
          <p:cNvPicPr/>
          <p:nvPr/>
        </p:nvPicPr>
        <p:blipFill>
          <a:blip r:embed="rId4"/>
          <a:stretch/>
        </p:blipFill>
        <p:spPr>
          <a:xfrm>
            <a:off x="603360" y="205416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160" y="3228480"/>
            <a:ext cx="7854840" cy="3467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	</a:t>
            </a:r>
            <a:r>
              <a:rPr b="0" lang="en-US" sz="2000" spc="-1" strike="noStrike">
                <a:solidFill>
                  <a:srgbClr val="f2f2f2"/>
                </a:solidFill>
                <a:latin typeface="Lucida Grande"/>
              </a:rPr>
              <a:t>Muny Choeun</a:t>
            </a: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68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71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72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3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74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Arial Rounded MT Bold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ヒラギノ角ゴ ProN W6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ヒラギノ角ゴ ProN W6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Arial Rounded MT Bold"/>
                <a:ea typeface="Arial Rounded MT Bold"/>
              </a:rPr>
              <a:t>Multi-function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Lucida Grande"/>
              </a:rPr>
              <a:t>Their Module –based system is constructed on a layered platform, making it possible to multiple functions to occur simultaneously .  Yippy offers same time full view and with each function dynamically set into its own layer, with overlapping control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7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8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8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8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86" name="Picture 8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8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9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9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9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96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9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0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0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0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06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0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1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1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1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16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3264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1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2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2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2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26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29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332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33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4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335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6" name="Picture 8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84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187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18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190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Lucida Grande"/>
              </a:rPr>
              <a:t>Welcome to the clouds</a:t>
            </a:r>
            <a:endParaRPr b="0" lang="en-US" sz="48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Clusty.com will take you to </a:t>
            </a:r>
            <a:r>
              <a:rPr b="0" lang="en-US" sz="3200" spc="-1" strike="noStrike">
                <a:solidFill>
                  <a:srgbClr val="00b0f0"/>
                </a:solidFill>
                <a:latin typeface="Lucida Grande"/>
              </a:rPr>
              <a:t>Yippy.com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,  Yippy is a good and helpful site that helps you multi-task while browsing, if you are looking for multiple things on the web, surfing the web has gotten easier with Yippy. Because of its multi-tasking functions searching for things has gotten much easier on the web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95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198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19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0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0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02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636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05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08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0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11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Lucida Grande"/>
              </a:rPr>
              <a:t>Yippy.com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Yippy is a metasearch engine  that queries multiple search engines and combines the results to be displayed as a group, or cloud on one screen.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 </a:t>
            </a: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retrieves results form 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Lucida Grande"/>
              </a:rPr>
              <a:t>Ask</a:t>
            </a:r>
            <a:r>
              <a:rPr b="0" lang="en-US" sz="2800" spc="-1" strike="noStrike">
                <a:solidFill>
                  <a:srgbClr val="0070c0"/>
                </a:solidFill>
                <a:latin typeface="Lucida Grande"/>
              </a:rPr>
              <a:t>, who is their current sponsor.  The hardware mated to dynamic software sets through a worldwide  LAN using a virtual universally connected web–base operating system.  It also focuses on clean and innovative web development programs for all types of web activitie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16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19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2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1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2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23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26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29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3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3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3" name="Picture 8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36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39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4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4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Lucida Grande"/>
              </a:rPr>
              <a:t>The world first fully functioning virtual computer</a:t>
            </a:r>
            <a:endParaRPr b="0" lang="en-US" sz="32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Lucida Grande"/>
              </a:rPr>
              <a:t>The cloud-based worldwide LAN, Yippy has turned every computer into a terminal itself and on the surface it’s a one stop shopping for web surfing needs of the average consumer. Yippy is an all inclusive media giant; incorporating television, gaming, news, movies, social networking, streaming radio, office applications, shopping, and much more all on the fastest internet browser available today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47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50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5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53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54" name="Picture 8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AutoShape 2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57" name="AutoShape 2" descr=""/>
            <p:cNvPicPr/>
            <p:nvPr/>
          </p:nvPicPr>
          <p:blipFill>
            <a:blip r:embed="rId1"/>
            <a:stretch/>
          </p:blipFill>
          <p:spPr>
            <a:xfrm>
              <a:off x="4376880" y="-12600"/>
              <a:ext cx="47736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81560" y="-7920"/>
              <a:ext cx="47624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"/>
          <p:cNvGrpSpPr/>
          <p:nvPr/>
        </p:nvGrpSpPr>
        <p:grpSpPr>
          <a:xfrm>
            <a:off x="-4680" y="-23760"/>
            <a:ext cx="9153360" cy="1047600"/>
            <a:chOff x="-4680" y="-23760"/>
            <a:chExt cx="9153360" cy="1047600"/>
          </a:xfrm>
        </p:grpSpPr>
        <p:grpSp>
          <p:nvGrpSpPr>
            <p:cNvPr id="260" name="Group 4"/>
            <p:cNvGrpSpPr/>
            <p:nvPr/>
          </p:nvGrpSpPr>
          <p:grpSpPr>
            <a:xfrm>
              <a:off x="-4680" y="-23760"/>
              <a:ext cx="9135720" cy="1047600"/>
              <a:chOff x="-4680" y="-23760"/>
              <a:chExt cx="9135720" cy="1047600"/>
            </a:xfrm>
          </p:grpSpPr>
          <p:pic>
            <p:nvPicPr>
              <p:cNvPr id="26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-4680" y="-23760"/>
                <a:ext cx="9135720" cy="1047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2" name="Group 6"/>
            <p:cNvGrpSpPr/>
            <p:nvPr/>
          </p:nvGrpSpPr>
          <p:grpSpPr>
            <a:xfrm>
              <a:off x="-4680" y="49320"/>
              <a:ext cx="9153360" cy="907920"/>
              <a:chOff x="-4680" y="49320"/>
              <a:chExt cx="9153360" cy="907920"/>
            </a:xfrm>
          </p:grpSpPr>
          <p:pic>
            <p:nvPicPr>
              <p:cNvPr id="263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-4680" y="49320"/>
                <a:ext cx="9153360" cy="90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0c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70c0"/>
                </a:solidFill>
                <a:latin typeface="Lucida Grande"/>
              </a:rPr>
              <a:t>Yippy base on Skinny code architecture</a:t>
            </a:r>
            <a:r>
              <a:rPr b="0" lang="en-US" sz="5000" spc="-1" strike="noStrike">
                <a:solidFill>
                  <a:srgbClr val="0070c0"/>
                </a:solidFill>
                <a:latin typeface="Lucida Grande"/>
              </a:rPr>
              <a:t>”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Which combines clean scripting with databasing for a one time object loads and one time dynamic page loads and since the page aren’t constantly refreshed, the result in a tremendous reduction bandwidth and server space required and reduces the load time for users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twork User</dc:creator>
  <dc:description/>
  <cp:keywords/>
  <dc:language>en-US</dc:language>
  <cp:lastModifiedBy>training</cp:lastModifiedBy>
  <dcterms:modified xsi:type="dcterms:W3CDTF">2010-11-13T14:39:53Z</dcterms:modified>
  <cp:revision>1</cp:revision>
  <dc:subject/>
  <dc:title>Clusty.com</dc:title>
</cp:coreProperties>
</file>